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9162-A7A8-4779-800D-D28C329F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6F05-528C-4C98-AD6E-6F81167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E03F-DD00-4D1A-9E63-75DB6AD6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7FF7-610B-4B18-B2E8-42E33532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6947-B3E6-4289-ABB9-B61A61F2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3C24-0701-44F5-8956-F0BCDA4E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619-2B97-46D6-99D5-A5FD0676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E8D6-9773-49D7-BA26-33AF790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8AB-D577-4352-9CED-23F1DA3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EA35-5F8F-4AB9-91C3-12335186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BE57-1645-449B-AE1B-23347F7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7109-84D5-4D44-ADEB-1DDC518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C927-8196-4125-B47F-BE3946C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BE60-7AF5-4E33-B08B-935C832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6018-54E9-4C09-82EC-45A68BE5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0DC-1131-4E42-AF86-023021D6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66C5-C861-427A-8E66-AF8CE9C6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2B90-3CE2-4620-9BAC-D207D289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8F8A-7704-4AC6-AF41-5BF88E75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BB95-3AD7-4BDE-A437-72A12552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6065-B7BE-4ADF-AA6A-6FB13C1C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85FF-1362-42B1-9CDF-ECFF28C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565C-CB60-4B03-A35E-D9D07FF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6FEF-590B-4219-8F53-C120F80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287-C19D-486F-BD6C-F04BF5CF93F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3CF-D9A3-42A5-A2E9-F42878F42EF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691640"/>
            <a:ext cx="1113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6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рита в мене е скръбта 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очите на све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риятел я не казв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на друг, освен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, аз на Теб възлаг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яка моя тего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аз пред Тебе слаг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Твой аз завсег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ози свят докат' живея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готите ми, Хрис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търпя, Ти всички знае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ам Ти ги претърп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, аз на Теб възлаг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яка моя тего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аз пред Тебе слаг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Твой аз завсег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26312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егчен от скръб, аз пад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нозете Ти, Хрис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ми, дай пак да се радвам, обърни към мен ли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280" y="21362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то, аз на Теб възлага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яка моя тего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ичко аз пред Тебе слаг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съм Твой аз завсег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/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30T08:42:25Z</dcterms:modified>
  <cp:revision>46</cp:revision>
  <dc:subject/>
  <dc:title>Slide 1</dc:title>
</cp:coreProperties>
</file>